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3F6-EDB3-49E9-83B2-E86FD211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226-F840-4022-AA74-777B9EA3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FAD-0F2E-4F57-94E0-39819B54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D3F-6A10-4674-AD3F-E8AA2B5C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EC7-9716-4AAC-B7EA-ECA18D7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67E-7D47-4CCB-A5F2-CD88814C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299-6D63-49CD-AC3D-C4E3A67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E2D-18A6-4B2D-994D-DC86608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2DC-FC0B-4DBA-A210-B59BCA11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D4-6F80-4CCE-A5E7-A27B49C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B86-1ED6-429B-9A02-41E0DF7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984-3437-4DAE-B74F-D7EE3E1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359-2E6B-456E-B5F4-C63169F6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250920" y="436572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42920" y="1484280"/>
            <a:ext cx="7129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>
                        <a:alpha val="50196"/>
                      </a:srgbClr>
                    </a:gs>
                    <a:gs pos="100000">
                      <a:srgbClr val="8c3d91"/>
                    </a:gs>
                  </a:gsLst>
                  <a:lin ang="13500000"/>
                </a:gradFill>
                <a:latin typeface="Arial"/>
              </a:rPr>
              <a:t>"Раскрывает ли теор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>
                      <a:alpha val="50196"/>
                    </a:srgbClr>
                  </a:gs>
                  <a:gs pos="100000">
                    <a:srgbClr val="8c3d91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>
                        <a:alpha val="50196"/>
                      </a:srgbClr>
                    </a:gs>
                    <a:gs pos="100000">
                      <a:srgbClr val="8c3d91"/>
                    </a:gs>
                  </a:gsLst>
                  <a:lin ang="13500000"/>
                </a:gradFill>
                <a:latin typeface="Arial"/>
              </a:rPr>
              <a:t>вероятности влияние 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>
                      <a:alpha val="50196"/>
                    </a:srgbClr>
                  </a:gs>
                  <a:gs pos="100000">
                    <a:srgbClr val="8c3d91"/>
                  </a:gs>
                </a:gsLst>
                <a:lin ang="135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50000">
                      <a:srgbClr val="000000">
                        <a:alpha val="50196"/>
                      </a:srgbClr>
                    </a:gs>
                    <a:gs pos="100000">
                      <a:srgbClr val="8c3d91"/>
                    </a:gs>
                  </a:gsLst>
                  <a:lin ang="13500000"/>
                </a:gradFill>
                <a:latin typeface="Arial"/>
              </a:rPr>
              <a:t>случайные события"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50000">
                    <a:srgbClr val="000000">
                      <a:alpha val="50196"/>
                    </a:srgbClr>
                  </a:gs>
                  <a:gs pos="100000">
                    <a:srgbClr val="8c3d91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19280" y="5950080"/>
            <a:ext cx="587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latin typeface="Arial"/>
              </a:rPr>
              <a:t>Исследовательская рабо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8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рактичес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ероят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е лампочки исправные      р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лампочка исправная, друг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кованная                           р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е лампочки бракованные  р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еоре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ероят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е лампочки исправные    р 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лампочка исправная, другая бракованная                           р 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е лампочки бракованные р 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6756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равн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 лампочки исправные р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лампочка исправная, другая бракованная  р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3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е лампочки бракованные  р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56030" t="32456" r="31843" b="56849"/>
          <a:stretch/>
        </p:blipFill>
        <p:spPr>
          <a:xfrm>
            <a:off x="5940360" y="4365720"/>
            <a:ext cx="3025800" cy="200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9089" t="43865" r="78168" b="46434"/>
          <a:stretch/>
        </p:blipFill>
        <p:spPr>
          <a:xfrm>
            <a:off x="0" y="0"/>
            <a:ext cx="2771640" cy="1582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br>
              <a:rPr sz="3200"/>
            </a:b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ксперимент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  колоды  в  36  карт  выбир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льным  образом   4  кар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явить вероятность наступ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ждого из исход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7705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се 4 карты одной масти – 1 р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овно 3 карты одной масти – 10 р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 карты одной масти и 2 другой масти – 3 р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2 карты одной масти и 2 карты различных мастей – 31 ра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се карты различных мастей – 5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90920" y="3639960"/>
            <a:ext cx="62290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3739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актическая вероят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4 карты одной масти: 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вно 3 карты одной масти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 и 2 друго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 и 2 карты различных масте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6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арты различных масте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-252360" y="530064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еоре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вероят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4 карты одной масти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вно 3 карты одной масти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 и 2 друго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 и 2 карты различных мастей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5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арты различных масте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равн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4 карты одной масти: 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вно 3 карты одной масти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0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арты одной масти и 2 карты различных мастей: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6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5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арты различных мастей:  р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=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,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-252360" y="4941720"/>
            <a:ext cx="2519280" cy="176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7020000" y="-171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рогноз на футбо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чемпионат мира 2010 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бедители   девяти   групп  выходят  в финальный   турнир  Чемпионата 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  (ЮАР).  Еще  четыре  финалиста определятся    в   стыковых   матчах,  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орых примут участие восемь коман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явших в группах вторые  места. 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м худшая команда,  из  тех, 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яли вторые места, не буде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пущена до стыковых  матч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rcRect l="19576" t="55057" r="69216" b="29547"/>
          <a:stretch/>
        </p:blipFill>
        <p:spPr>
          <a:xfrm>
            <a:off x="7524720" y="3068640"/>
            <a:ext cx="13986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Дания.   2-е    место  –  Венг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Швейцария. 2е место –  Гре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Словакия. 2е место – Ирлан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Германия. 2-е  место  –  Россия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 –  Испания.  2е  место  –  Бос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Англия. 2-е  место  –  Хорва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Сербия. 2-е  место  –  Фран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Италия. 2-е место  –  Ирлан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е место – Голландия. 2е место – Шотлан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179280" y="4797360"/>
            <a:ext cx="2519640" cy="176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948360" y="404640"/>
            <a:ext cx="2519640" cy="1764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04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крывает ли теория вероятности влияние на случайные со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роблема: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о ли управлять случайными собы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яснить, можно ли упр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чайными собы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финал выход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ния, Швейцария, Словакия, Германия,  Испания,   Англ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рбия,  Италия,   Голланд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стыковые матчи выходя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нгрия,   Греция,   Ирландия,  Россия, Босния, Хорватия, Франция, Ирландия, Шотлан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5953" t="41040" r="32770" b="47694"/>
          <a:stretch/>
        </p:blipFill>
        <p:spPr>
          <a:xfrm>
            <a:off x="3203640" y="3789360"/>
            <a:ext cx="3744720" cy="280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948360" y="0"/>
            <a:ext cx="2519640" cy="1763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66979" t="56495" r="23419" b="30718"/>
          <a:stretch/>
        </p:blipFill>
        <p:spPr>
          <a:xfrm>
            <a:off x="0" y="0"/>
            <a:ext cx="1116000" cy="1114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Состав финал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ания, Швейцария, Словак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рмания, Испания, Англ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рбия,  Италия,  Голланд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сия, Венгрия, Греция, Бос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а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ия вероятности не влияет на случайные  события,  она  т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воляет выяснить  степень  его наст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инство случайных событ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зависит от  внешних  фа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ятность,     посчитанная     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эксперимента,  тем  точне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 больше  провед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7093080" y="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0" y="530064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179280" y="4797360"/>
            <a:ext cx="2519640" cy="176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Гипотеза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ход случайного события нельзя предсказать заранее, но можно вычислить его вероятность, спрогнозировать благоприятный исхо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-39672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анализировать теоретические вопросы теории вероятности, посвященные случайным событи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явить характерные признаки случайных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тановить существуют или отсутствуют факторы, влияющие на исход случайных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Предмет исследования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акторы, влияющие на случайные собы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Объект исследования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учайные события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179280" y="4797360"/>
            <a:ext cx="2519640" cy="17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179280" y="4797360"/>
            <a:ext cx="2519640" cy="1763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Этапы исследования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рганиз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посредственно прове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анали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онтроль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2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методы исследовани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сравнение, анализ, обобщение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пир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эксперимент и прогнозирова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асчет с применением форм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6624720" y="0"/>
            <a:ext cx="2519280" cy="176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-252360" y="509436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777564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Эксперимент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таскивание из 15 лампочек, 2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торых бракованные, произвольным образом 2 лам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ь вероятность того, что 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мпочки окажутся бракованными; 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мпочки будут исправными; одн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мпочка будет  исправной,   о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аков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9520" t="55638" r="78220" b="31643"/>
          <a:stretch/>
        </p:blipFill>
        <p:spPr>
          <a:xfrm>
            <a:off x="179280" y="189000"/>
            <a:ext cx="1871640" cy="145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56311" t="33740" r="32737" b="53650"/>
          <a:stretch/>
        </p:blipFill>
        <p:spPr>
          <a:xfrm>
            <a:off x="6877080" y="4869000"/>
            <a:ext cx="20876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e3"/>
            </a:gs>
            <a:gs pos="50000">
              <a:srgbClr val="ffffff"/>
            </a:gs>
            <a:gs pos="100000">
              <a:srgbClr val="cfd1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8166" t="41320" r="81649" b="49180"/>
          <a:stretch/>
        </p:blipFill>
        <p:spPr>
          <a:xfrm>
            <a:off x="6624720" y="-243000"/>
            <a:ext cx="2519280" cy="17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8166" t="41320" r="81649" b="49180"/>
          <a:stretch/>
        </p:blipFill>
        <p:spPr>
          <a:xfrm>
            <a:off x="0" y="5094360"/>
            <a:ext cx="2519280" cy="1763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Обе лампочки исправные – 6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1 лампочка исправная, другая бракованная – 3 р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Обе лампочки бракованные – 1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4005360"/>
          <a:ext cx="8569080" cy="1114200"/>
        </p:xfrm>
        <a:graphic>
          <a:graphicData uri="http://schemas.openxmlformats.org/drawingml/2006/table">
            <a:tbl>
              <a:tblPr/>
              <a:tblGrid>
                <a:gridCol w="1101600"/>
                <a:gridCol w="1608120"/>
                <a:gridCol w="581040"/>
                <a:gridCol w="577800"/>
                <a:gridCol w="581040"/>
                <a:gridCol w="577800"/>
                <a:gridCol w="581040"/>
                <a:gridCol w="577800"/>
                <a:gridCol w="582840"/>
                <a:gridCol w="577800"/>
                <a:gridCol w="581040"/>
                <a:gridCol w="641160"/>
              </a:tblGrid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8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ламп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к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ра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1:54Z</dcterms:created>
  <dc:creator>Старевы</dc:creator>
  <dc:description/>
  <dc:language>en-US</dc:language>
  <cp:lastModifiedBy>Старевы</cp:lastModifiedBy>
  <dcterms:modified xsi:type="dcterms:W3CDTF">2009-11-19T17:57:31Z</dcterms:modified>
  <cp:revision>5</cp:revision>
  <dc:subject/>
  <dc:title>Слайд 1</dc:title>
</cp:coreProperties>
</file>